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8A6-9996-4E00-91E1-FDEAF60D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172-31A1-40C0-912C-48ABB18C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C2C-BCB4-491B-97E3-E685A0F4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50D-B434-4486-9DD1-13A2E187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2707-103C-4991-832F-B32DA1F7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782C-4614-4E73-9270-81193E5F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61CB-9732-4E15-858F-4AF07E09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3E09-3B8C-4668-8EA7-0818D99B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83A9-62A9-4549-8651-73D23752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E66D-7366-4F8E-BA59-3C70D6F0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587F-FF06-4283-BBF7-50A5D9A2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702-E13E-40DF-A624-0A5F4B34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5D31-0AF1-499E-97FA-829DB75C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5F49-C618-4F70-9DA1-ACAD3932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1E9B-F6A8-4BD7-9642-7B270597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E10E-A571-42AF-8D17-0AFEC97C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E5E5-1703-4950-B85E-E97261D0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18C-F522-42A9-8531-22B38E0C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F69-7329-435C-A361-F49263EF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91C-C1A8-4987-916D-7A1E8A29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925-439B-4BE5-89D3-5D2AFDEC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037-E87E-4897-AC0F-1BF00BC8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9CD-B069-4115-AC40-0DC73F9F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442-3793-4228-974D-28DD1DBC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680D-82A8-4A31-911A-08B1472C58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6B58-1AB1-410F-8C0E-09E9F98B81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671480" y="907920"/>
            <a:ext cx="58532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Княз Борис І - Михаил</a:t>
            </a:r>
            <a:endParaRPr b="0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64000" y="3141720"/>
            <a:ext cx="223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46101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През 886 година княз Борис І посреща Климент, Наум,  Ангеларий, Сава и Горазд в столицата Плис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В българия били създадени две  огнища на християнска книжнина на славянски ез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496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267372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наз Борис І положил много усилия за създаване на отделна църк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з 870 Българската църква била призната от другите християнски цъ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16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В средата на ІХ век България се простира от Карпатите на север до Родопите на юг,от Черно море на изток до Охридското езеро на зап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5184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Европейските владетели не признавали българските владетели за рав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Наричали българите – езичниц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Не признавали подписаните договори с българските владетели, тъй като тези договори не били скреп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с клетвата в Б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427280" y="2205000"/>
            <a:ext cx="425916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Хан Борис, внукът на хан Омуртаг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решил да прием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християнската вя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и  да покръ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целия български нар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10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2061360"/>
            <a:ext cx="6551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Хан Борис разбрал, че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 общата религия ще слее славяните и българите в един наро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ще направи българския владетел равен на европейските владе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 българската държава ще е равна на европейските държа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14804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400284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з 684 година от Цариград пристигнали духовници, които покръстили българския ха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орис приел името на своя кръстни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мператор Михаил ІІ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се нарекъл кня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97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През 865година всички българи приемат хистиянств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С покръстването на княз Борис и народа България заела равностойно място сред другите европейски народ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Много важно било новата религия да се изповядва на разбираем ези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ечат- Богородице 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магай на Михаил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ладетел на Бълг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3168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След приемането на християнството в България се настанили византийски свещеници. Езикът им звучал в църквите, в манастирите дори в княжеския дворец. Българският владетел “жадувал” за учени мъже и молел бога ден и нощ да му ги пра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1116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4365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През 855година светите братя Кирил и Методий създават славянската азбу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Те превеждали християнските книги и проповеди на славянски ез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539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4:49:28Z</dcterms:created>
  <dc:creator>Home</dc:creator>
  <dc:description/>
  <dc:language>en-US</dc:language>
  <cp:lastModifiedBy>Home</cp:lastModifiedBy>
  <dcterms:modified xsi:type="dcterms:W3CDTF">2012-10-14T08:31:50Z</dcterms:modified>
  <cp:revision>4</cp:revision>
  <dc:subject/>
  <dc:title>Слайд 1</dc:title>
</cp:coreProperties>
</file>